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13.wmf" ContentType="image/x-wmf"/>
  <Override PartName="/ppt/media/image49.png" ContentType="image/png"/>
  <Override PartName="/ppt/media/image48.png" ContentType="image/png"/>
  <Override PartName="/ppt/media/image46.wmf" ContentType="image/x-wmf"/>
  <Override PartName="/ppt/media/image45.wmf" ContentType="image/x-wmf"/>
  <Override PartName="/ppt/media/image44.png" ContentType="image/png"/>
  <Override PartName="/ppt/media/image29.png" ContentType="image/png"/>
  <Override PartName="/ppt/media/image32.wmf" ContentType="image/x-wmf"/>
  <Override PartName="/ppt/media/image5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5.wmf" ContentType="image/x-wmf"/>
  <Override PartName="/ppt/media/image11.wmf" ContentType="image/x-wmf"/>
  <Override PartName="/ppt/media/image54.png" ContentType="image/png"/>
  <Override PartName="/ppt/media/image5.jpeg" ContentType="image/jpeg"/>
  <Override PartName="/ppt/media/image61.png" ContentType="image/png"/>
  <Override PartName="/ppt/media/image16.wmf" ContentType="image/x-wmf"/>
  <Override PartName="/ppt/media/image59.png" ContentType="image/png"/>
  <Override PartName="/ppt/media/image22.png" ContentType="image/png"/>
  <Override PartName="/ppt/media/image17.png" ContentType="image/png"/>
  <Override PartName="/ppt/media/image18.wmf" ContentType="image/x-wmf"/>
  <Override PartName="/ppt/media/image20.png" ContentType="image/png"/>
  <Override PartName="/ppt/media/image66.wmf" ContentType="image/x-wmf"/>
  <Override PartName="/ppt/media/image65.wmf" ContentType="image/x-wmf"/>
  <Override PartName="/ppt/media/image62.png" ContentType="image/png"/>
  <Override PartName="/ppt/media/image63.wmf" ContentType="image/x-wmf"/>
  <Override PartName="/ppt/media/image23.png" ContentType="image/png"/>
  <Override PartName="/ppt/media/image26.wmf" ContentType="image/x-wmf"/>
  <Override PartName="/ppt/media/image24.wmf" ContentType="image/x-wmf"/>
  <Override PartName="/ppt/media/image64.wmf" ContentType="image/x-wmf"/>
  <Override PartName="/ppt/media/image27.wmf" ContentType="image/x-wmf"/>
  <Override PartName="/ppt/media/image25.wmf" ContentType="image/x-wmf"/>
  <Override PartName="/ppt/media/image60.png" ContentType="image/png"/>
  <Override PartName="/ppt/media/image57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2.png" ContentType="image/png"/>
  <Override PartName="/ppt/media/image8.wmf" ContentType="image/x-wmf"/>
  <Override PartName="/ppt/media/image40.png" ContentType="image/png"/>
  <Override PartName="/ppt/media/image53.png" ContentType="image/png"/>
  <Override PartName="/ppt/media/image10.wmf" ContentType="image/x-wmf"/>
  <Override PartName="/ppt/media/image7.wmf" ContentType="image/x-wmf"/>
  <Override PartName="/ppt/media/image55.png" ContentType="image/png"/>
  <Override PartName="/ppt/media/image12.wmf" ContentType="image/x-wmf"/>
  <Override PartName="/ppt/media/image4.jpeg" ContentType="image/jpeg"/>
  <Override PartName="/ppt/media/image51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28.png" ContentType="image/png"/>
  <Override PartName="/ppt/media/image52.png" ContentType="image/png"/>
  <Override PartName="/ppt/media/image3.png" ContentType="image/png"/>
  <Override PartName="/ppt/media/image30.wmf" ContentType="image/x-wmf"/>
  <Override PartName="/ppt/media/image31.png" ContentType="image/png"/>
  <Override PartName="/ppt/media/image33.wmf" ContentType="image/x-wmf"/>
  <Override PartName="/ppt/media/image34.jpeg" ContentType="image/jpeg"/>
  <Override PartName="/ppt/media/image37.png" ContentType="image/png"/>
  <Override PartName="/ppt/media/image35.png" ContentType="image/png"/>
  <Override PartName="/ppt/media/image38.png" ContentType="image/png"/>
  <Override PartName="/ppt/media/image19.png" ContentType="image/png"/>
  <Override PartName="/ppt/media/image41.wmf" ContentType="image/x-wmf"/>
  <Override PartName="/ppt/media/image4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3858-2606-4469-BE0D-82DCE250D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ze the problem and state it 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th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e., there is a ball of fire in th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7AF-8509-447E-9863-5B315F59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C89-A941-4317-8686-86BB2B53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6DA-48D1-4B03-AE55-2A0A90B1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B46-D007-4646-88AB-A3705D5C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0F33-0DD3-4AFE-B281-80E54805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1428-BB2C-462E-B2F8-26C0A68D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65DE-BAA6-4E6B-984A-17A4F028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F702-E121-4868-A8BE-D3E3D858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70AE-8B8F-47D1-9AA5-805B359F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3C6B-748E-45D7-9190-974223BA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558F-7435-44D5-9AE7-7DD069E6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7E9-AE54-417B-8B9E-2DC2AD15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80C6-37E9-47C1-881A-28820D65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80FA-8D5D-4E64-B485-BEA1860A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AFAD-6F2F-4993-9EF9-DA44053E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ED04-45E9-4280-ABF2-A07424B0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2C80-42F5-4B8C-B38A-188C3C40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D0EF6-DB94-42F1-8E53-D9286B06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13811-2DA6-439E-8B30-CCFEFA49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AAC20-5EAE-43E8-83DC-1BD78FDE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43BBC-1ECF-4FB7-95AD-7A96E78E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5313-75A5-4FEE-A232-94F9C345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F7F-7E32-45EE-9C68-2237F7C2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6F25B-C86E-4734-B6F9-5B37ED99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19975-1C22-4017-9F1C-FCE23F8D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4B5C7-469A-46DF-B647-C53AC596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08E86-B6AA-4B31-87CC-BD18F366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7057E-7885-4833-B07E-6312FB51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516CD-1B48-4778-81F9-A5C76687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D92E3-46B3-49D9-A3CA-64A392EE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C22CB-2C24-4D22-B7AE-334B2586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C0BD3-4370-40DC-86DB-DE6D0DE5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F92D8-3FE8-414B-B40C-80EE5917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6B9-D6AD-4708-B8A0-5058928C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4FC01-68F6-4EF2-8F83-B419EFD6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26F96-F3C2-435C-BDBC-40B125E6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8C583-02D7-4D95-9C23-B64CF554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40A30-BFB5-4603-A7AF-F691990C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30F0A-7533-40CB-927C-E854D705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AB131-DC6D-4C0B-8AA7-FF466EF7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352DB-C5F8-42D1-8B02-20B51092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35DDD-8B01-4740-B511-4FA41DF6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CD8E3-02B2-41FB-9841-CA72C182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D14-43AA-4B94-BC10-F3AB2F53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308-B784-4492-8EE5-86CE793A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76D-F507-4EA5-9B2F-E6E4D298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3FB-D864-40E7-840D-E289F441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370-D2FC-4EAD-9E9F-D10AEADB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3ED9-3D5A-4B90-AAD2-B3AC5F7E987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FF14-7267-4553-A427-137F11636C38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73A9-BB8C-406C-9B7D-A7E1C7165B5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0FF8-7318-48D7-833A-77260C894C2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182520" y="822240"/>
            <a:ext cx="86868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масену концентрацију 37% раствора сумпорне киселине ако je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L тог раствора1280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X g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3,6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 = </a:t>
            </a: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73,6 </a:t>
            </a:r>
            <a:r>
              <a:rPr b="0" lang="sr-Latn-C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</a:t>
            </a: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L</a:t>
            </a:r>
            <a:r>
              <a:rPr b="0" lang="sr-Latn-C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H</a:t>
            </a:r>
            <a:r>
              <a:rPr b="0" lang="sr-Latn-CS" sz="25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5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182520" y="3382920"/>
            <a:ext cx="90662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асена концентрација раствора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je 2 mg/cm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моларну концентрацију раство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NaCl) = 23 + 35,5 = 58,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2 mg NaCl =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X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NaC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2000 mg NaCl = 2 g NaCl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d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58,5 g NaCl= X mola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NaC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sr-Latn-C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03148 mol/dm</a:t>
            </a:r>
            <a:r>
              <a:rPr b="0" lang="sr-Latn-CS" sz="25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NaC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2268360" y="1087560"/>
            <a:ext cx="48229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лна концентрација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82520" y="4937040"/>
            <a:ext cx="86868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лна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лит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однос броја молова растворене супстанце (В) и масе растварача (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1279440" y="2205000"/>
            <a:ext cx="648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182520" y="1484280"/>
            <a:ext cx="86868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молалност 67% раствора сахароз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 g 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33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 g 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000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2030 g 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k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342g 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 m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2030 g 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,93 mol/kg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82520" y="974880"/>
            <a:ext cx="8686800" cy="63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молал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оларитет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sr-R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10 g/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85 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000 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76,5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k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9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76,5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,8 mol/kg H</a:t>
            </a:r>
            <a:r>
              <a:rPr b="0" lang="sr-Latn-C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00 c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1,10 g/c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0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5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00 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X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65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98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X m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65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,68 mol/dm</a:t>
            </a:r>
            <a:r>
              <a:rPr b="0" lang="sr-Latn-CS" sz="24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 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908000" y="1197000"/>
            <a:ext cx="5759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вивалентна концентрација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79280" y="2781360"/>
            <a:ext cx="85694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вивалентна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лит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однос броја еквивалената растворене супстанце у </a:t>
            </a:r>
            <a:br>
              <a:rPr sz="2800"/>
            </a:b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1" lang="sr-Latn-C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dm</a:t>
            </a:r>
            <a:r>
              <a:rPr b="1" lang="sr-Latn-CS" sz="2800" spc="-1" strike="noStrike" u="sng" baseline="30000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 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60440" y="1125360"/>
            <a:ext cx="280836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ски удео </a:t>
            </a:r>
            <a:r>
              <a:rPr b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i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82520" y="4754520"/>
            <a:ext cx="876312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ски удео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ска фрак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однос количине растворене супстанце или растварача и укупне количине свих супстанци у раств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2817720" y="3075120"/>
            <a:ext cx="49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вор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и од растварача (А) и растворене супстанце (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4" descr=""/>
          <p:cNvPicPr/>
          <p:nvPr/>
        </p:nvPicPr>
        <p:blipFill>
          <a:blip r:embed="rId1"/>
          <a:stretch/>
        </p:blipFill>
        <p:spPr>
          <a:xfrm>
            <a:off x="182520" y="1751040"/>
            <a:ext cx="7583400" cy="2193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"/>
          <p:cNvPicPr/>
          <p:nvPr/>
        </p:nvPicPr>
        <p:blipFill>
          <a:blip r:embed="rId2"/>
          <a:stretch/>
        </p:blipFill>
        <p:spPr>
          <a:xfrm>
            <a:off x="5969160" y="3782880"/>
            <a:ext cx="2624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182520" y="731880"/>
            <a:ext cx="86774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sr-Latn-C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ћи молски удео растворене супстанце у 67% раствору сахарозе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= 3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аствора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+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=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34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C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X mo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67 g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196 mol C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18 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X mo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33 g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,83 mo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82520" y="4846680"/>
            <a:ext cx="63230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07640" y="1125000"/>
            <a:ext cx="7909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1"/>
          <a:stretch/>
        </p:blipFill>
        <p:spPr>
          <a:xfrm>
            <a:off x="274680" y="1828800"/>
            <a:ext cx="6780240" cy="21938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2"/>
          <p:cNvSpPr/>
          <p:nvPr/>
        </p:nvSpPr>
        <p:spPr>
          <a:xfrm>
            <a:off x="182520" y="4664160"/>
            <a:ext cx="86900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m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s per million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представља број честица 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растворене супстанце на милион честица 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8000" y="1052640"/>
            <a:ext cx="7192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b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74680" y="1828800"/>
            <a:ext cx="6708600" cy="21938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182520" y="4869000"/>
            <a:ext cx="86947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s per billion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представља број честица 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растворене супстанце на </a:t>
            </a:r>
            <a:r>
              <a:rPr b="1" lang="sr-R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једну милијарду 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честица 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663480" y="1628640"/>
            <a:ext cx="7543800" cy="28958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274680" y="4846680"/>
            <a:ext cx="79549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ажени раствори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 mol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и раствори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0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74640" y="6151680"/>
            <a:ext cx="57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ачност аналитичке ваге износи  ± 0,1 mg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35280" y="1196640"/>
            <a:ext cx="5688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нтитативни састав раствор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5960" y="2266560"/>
            <a:ext cx="7772400" cy="36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ни удео (процентна концентрација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арна концентрациј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ална концентрациј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ски уде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ите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b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82160" y="1773360"/>
            <a:ext cx="8961480" cy="20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343080"/>
                <a:tab algn="l" pos="800280"/>
                <a:tab algn="l" pos="2114640"/>
                <a:tab algn="l" pos="251460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растворене супстанце остаје константна, мења се запремина раствор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343080"/>
                <a:tab algn="l" pos="800280"/>
                <a:tab algn="l" pos="2114640"/>
                <a:tab algn="l" pos="251460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молова пре разблажења = број молова после разблажењ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800280"/>
                <a:tab algn="l" pos="2114640"/>
                <a:tab algn="l" pos="251460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2626920" y="1125000"/>
            <a:ext cx="42483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блаживање раствор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182520" y="3860640"/>
            <a:ext cx="871056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концентрацију раствор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је добијен мешањ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0 c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mol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O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c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mol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0,3 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0,7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08 mol/dm</a:t>
            </a:r>
            <a:r>
              <a:rPr b="0" lang="sr-Latn-CS" sz="24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0" lang="sr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а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a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3"/>
          <p:cNvSpPr/>
          <p:nvPr/>
        </p:nvSpPr>
        <p:spPr>
          <a:xfrm>
            <a:off x="2340000" y="981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итет и концентр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182520" y="1828800"/>
            <a:ext cx="5365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ажени раствори (&lt; 0,1 mol/L) – интеракције између честица растворене супстанце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немарљив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деални раствори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182520" y="3932280"/>
            <a:ext cx="550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и раствори (&gt;</a:t>
            </a:r>
            <a:r>
              <a:rPr b="0" lang="sr-Latn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mol/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присутна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 између честица растворене супстанце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ални раствори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1"/>
          <p:cNvGraphicFramePr/>
          <p:nvPr/>
        </p:nvGraphicFramePr>
        <p:xfrm>
          <a:off x="5668920" y="2930400"/>
          <a:ext cx="3237120" cy="30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8920" y="2930400"/>
                    <a:ext cx="3237120" cy="30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Box 3"/>
          <p:cNvSpPr/>
          <p:nvPr/>
        </p:nvSpPr>
        <p:spPr>
          <a:xfrm>
            <a:off x="5578560" y="1828800"/>
            <a:ext cx="3473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та се дешава у концентрованим растворима јаких електролита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6035760" y="6021360"/>
            <a:ext cx="3143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ска атмосфе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250920" y="2637000"/>
            <a:ext cx="669744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стоје изоловани јони у раств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јон је окружен супротно наелектрисаним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 су покретни у раствору тј. могу изаћи из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е и ући у другу јонску атмосф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2124000" y="119700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baj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ikel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ва теорија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23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C:\Users\Maca\Desktop\debaj.png"/>
          <p:cNvPicPr/>
          <p:nvPr/>
        </p:nvPicPr>
        <p:blipFill>
          <a:blip r:embed="rId1"/>
          <a:stretch/>
        </p:blipFill>
        <p:spPr>
          <a:xfrm>
            <a:off x="6948360" y="2060640"/>
            <a:ext cx="19432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5"/>
          <p:cNvSpPr/>
          <p:nvPr/>
        </p:nvSpPr>
        <p:spPr>
          <a:xfrm>
            <a:off x="182520" y="1893960"/>
            <a:ext cx="885348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7.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</a:t>
            </a:r>
            <a:r>
              <a:rPr b="0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ewis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о појам активитета јона у раствор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тет (а) је ефективна концентрација јона у раствор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TextBox 2"/>
          <p:cNvGrpSpPr/>
          <p:nvPr/>
        </p:nvGrpSpPr>
        <p:grpSpPr>
          <a:xfrm>
            <a:off x="244440" y="3260880"/>
            <a:ext cx="2419560" cy="969840"/>
            <a:chOff x="244440" y="3260880"/>
            <a:chExt cx="2419560" cy="969840"/>
          </a:xfrm>
        </p:grpSpPr>
        <p:pic>
          <p:nvPicPr>
            <p:cNvPr id="270" name="TextBox 2" descr=""/>
            <p:cNvPicPr/>
            <p:nvPr/>
          </p:nvPicPr>
          <p:blipFill>
            <a:blip r:embed="rId1"/>
            <a:stretch/>
          </p:blipFill>
          <p:spPr>
            <a:xfrm>
              <a:off x="244440" y="3260880"/>
              <a:ext cx="24195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57200" y="3357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a</a:t>
              </a:r>
              <a:r>
                <a:rPr b="1" lang="sr-Latn-C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= c </a:t>
              </a:r>
              <a:r>
                <a:rPr b="1" lang="sr-Latn-CS" sz="3200" spc="-1" strike="noStrike" baseline="30000">
                  <a:solidFill>
                    <a:srgbClr val="01181f"/>
                  </a:solidFill>
                  <a:latin typeface="Times New Roman"/>
                  <a:ea typeface="Times New Roman"/>
                </a:rPr>
                <a:t>.</a:t>
              </a:r>
              <a:r>
                <a:rPr b="1" lang="sr-Latn-C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TextBox 3"/>
          <p:cNvGrpSpPr/>
          <p:nvPr/>
        </p:nvGrpSpPr>
        <p:grpSpPr>
          <a:xfrm>
            <a:off x="244440" y="3902040"/>
            <a:ext cx="7558200" cy="1468440"/>
            <a:chOff x="244440" y="3902040"/>
            <a:chExt cx="7558200" cy="1468440"/>
          </a:xfrm>
        </p:grpSpPr>
        <p:pic>
          <p:nvPicPr>
            <p:cNvPr id="273" name="TextBox 3" descr=""/>
            <p:cNvPicPr/>
            <p:nvPr/>
          </p:nvPicPr>
          <p:blipFill>
            <a:blip r:embed="rId2"/>
            <a:stretch/>
          </p:blipFill>
          <p:spPr>
            <a:xfrm>
              <a:off x="244440" y="3902040"/>
              <a:ext cx="755820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57200" y="4005360"/>
              <a:ext cx="7286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c  - 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моларна концентрациј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f</a:t>
              </a:r>
              <a:r>
                <a:rPr b="1" lang="sr-Latn-CS" sz="3200" spc="-1" strike="noStrike">
                  <a:solidFill>
                    <a:srgbClr val="01181f"/>
                  </a:solidFill>
                  <a:latin typeface="Symbol"/>
                  <a:ea typeface="Symbol"/>
                </a:rPr>
                <a:t>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фактор (коефицијент) активитет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TextBox 4"/>
          <p:cNvGrpSpPr/>
          <p:nvPr/>
        </p:nvGrpSpPr>
        <p:grpSpPr>
          <a:xfrm>
            <a:off x="274680" y="5126040"/>
            <a:ext cx="8130960" cy="873000"/>
            <a:chOff x="274680" y="5126040"/>
            <a:chExt cx="8130960" cy="873000"/>
          </a:xfrm>
        </p:grpSpPr>
        <p:pic>
          <p:nvPicPr>
            <p:cNvPr id="276" name="TextBox 4" descr=""/>
            <p:cNvPicPr/>
            <p:nvPr/>
          </p:nvPicPr>
          <p:blipFill>
            <a:blip r:embed="rId3"/>
            <a:stretch/>
          </p:blipFill>
          <p:spPr>
            <a:xfrm>
              <a:off x="274680" y="5126040"/>
              <a:ext cx="813096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57200" y="5210280"/>
              <a:ext cx="788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f</a:t>
              </a:r>
              <a:r>
                <a:rPr b="1" lang="sr-Latn-CS" sz="2800" spc="-1" strike="noStrike">
                  <a:solidFill>
                    <a:srgbClr val="01181f"/>
                  </a:solidFill>
                  <a:latin typeface="Symbol"/>
                  <a:ea typeface="Symbol"/>
                </a:rPr>
                <a:t>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sr-Latn-C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= c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(идеалан раствор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TextBox 5"/>
          <p:cNvGrpSpPr/>
          <p:nvPr/>
        </p:nvGrpSpPr>
        <p:grpSpPr>
          <a:xfrm>
            <a:off x="274680" y="5791320"/>
            <a:ext cx="8137440" cy="871560"/>
            <a:chOff x="274680" y="5791320"/>
            <a:chExt cx="8137440" cy="871560"/>
          </a:xfrm>
        </p:grpSpPr>
        <p:pic>
          <p:nvPicPr>
            <p:cNvPr id="279" name="TextBox 5" descr=""/>
            <p:cNvPicPr/>
            <p:nvPr/>
          </p:nvPicPr>
          <p:blipFill>
            <a:blip r:embed="rId4"/>
            <a:stretch/>
          </p:blipFill>
          <p:spPr>
            <a:xfrm>
              <a:off x="274680" y="5791320"/>
              <a:ext cx="8137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57200" y="5877000"/>
              <a:ext cx="789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f</a:t>
              </a:r>
              <a:r>
                <a:rPr b="1" lang="sr-Latn-C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&lt; 1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; </a:t>
              </a:r>
              <a:r>
                <a:rPr b="1" i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a &lt; c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</a:t>
              </a:r>
              <a:r>
                <a:rPr b="1" lang="sr-R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раствор електроли</a:t>
              </a:r>
              <a:r>
                <a:rPr b="1" lang="sr-R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та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Rectangle 10"/>
          <p:cNvSpPr/>
          <p:nvPr/>
        </p:nvSpPr>
        <p:spPr>
          <a:xfrm>
            <a:off x="3125520" y="109692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итет ј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182520" y="2276640"/>
            <a:ext cx="84963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од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центрације посматраног јона у раствору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електрисања посматраног јона у раствору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центрације и наелектрисања свих јона присутних у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у (јонска сила раствора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365040" y="5715000"/>
            <a:ext cx="63676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≤ 0,001 mol/dm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је разблаж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1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4"/>
          <p:cNvSpPr/>
          <p:nvPr/>
        </p:nvSpPr>
        <p:spPr>
          <a:xfrm>
            <a:off x="182520" y="1197000"/>
            <a:ext cx="863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aj-Hikel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е може се израчунати фактор (коефицијент) активитета јон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1979640" y="4543560"/>
            <a:ext cx="4392720" cy="973080"/>
            <a:chOff x="1979640" y="4543560"/>
            <a:chExt cx="4392720" cy="973080"/>
          </a:xfrm>
        </p:grpSpPr>
        <p:graphicFrame>
          <p:nvGraphicFramePr>
            <p:cNvPr id="286" name="Object 2"/>
            <p:cNvGraphicFramePr/>
            <p:nvPr/>
          </p:nvGraphicFramePr>
          <p:xfrm>
            <a:off x="1979640" y="4543560"/>
            <a:ext cx="4392720" cy="97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9640" y="4543560"/>
                      <a:ext cx="4392720" cy="97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TextBox 5"/>
            <p:cNvSpPr/>
            <p:nvPr/>
          </p:nvSpPr>
          <p:spPr>
            <a:xfrm>
              <a:off x="3714840" y="4584240"/>
              <a:ext cx="32508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Notched Right Arrow 5"/>
          <p:cNvSpPr/>
          <p:nvPr/>
        </p:nvSpPr>
        <p:spPr>
          <a:xfrm>
            <a:off x="3059280" y="5950080"/>
            <a:ext cx="366480" cy="137880"/>
          </a:xfrm>
          <a:custGeom>
            <a:avLst/>
            <a:gdLst>
              <a:gd name="textAreaLeft" fmla="*/ 34200 w 366480"/>
              <a:gd name="textAreaRight" fmla="*/ 332280 w 366480"/>
              <a:gd name="textAreaTop" fmla="*/ 34560 h 137880"/>
              <a:gd name="textAreaBottom" fmla="*/ 103680 h 137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32" y="5400"/>
                </a:lnTo>
                <a:lnTo>
                  <a:pt x="17532" y="0"/>
                </a:lnTo>
                <a:lnTo>
                  <a:pt x="21600" y="10800"/>
                </a:lnTo>
                <a:lnTo>
                  <a:pt x="17532" y="21600"/>
                </a:lnTo>
                <a:lnTo>
                  <a:pt x="17532" y="16200"/>
                </a:lnTo>
                <a:lnTo>
                  <a:pt x="0" y="16200"/>
                </a:lnTo>
                <a:lnTo>
                  <a:pt x="2034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Notched Right Arrow 5"/>
          <p:cNvSpPr/>
          <p:nvPr/>
        </p:nvSpPr>
        <p:spPr>
          <a:xfrm>
            <a:off x="1258920" y="6381720"/>
            <a:ext cx="366840" cy="138240"/>
          </a:xfrm>
          <a:custGeom>
            <a:avLst/>
            <a:gdLst>
              <a:gd name="textAreaLeft" fmla="*/ 34560 w 366840"/>
              <a:gd name="textAreaRight" fmla="*/ 332280 w 366840"/>
              <a:gd name="textAreaTop" fmla="*/ 34560 h 138240"/>
              <a:gd name="textAreaBottom" fmla="*/ 103680 h 13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32" y="5400"/>
                </a:lnTo>
                <a:lnTo>
                  <a:pt x="17532" y="0"/>
                </a:lnTo>
                <a:lnTo>
                  <a:pt x="21600" y="10800"/>
                </a:lnTo>
                <a:lnTo>
                  <a:pt x="17532" y="21600"/>
                </a:lnTo>
                <a:lnTo>
                  <a:pt x="17532" y="16200"/>
                </a:lnTo>
                <a:lnTo>
                  <a:pt x="0" y="16200"/>
                </a:lnTo>
                <a:lnTo>
                  <a:pt x="2034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"/>
          <p:cNvSpPr/>
          <p:nvPr/>
        </p:nvSpPr>
        <p:spPr>
          <a:xfrm>
            <a:off x="1835280" y="1189080"/>
            <a:ext cx="56163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ска сила (јачина) раствора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187200" y="2176560"/>
            <a:ext cx="8750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а сила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јачина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 једнака је половини збира производа концентрације сваког јона и квадрата његовог наелектрисањ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182520" y="5013360"/>
            <a:ext cx="77742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центрациј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у раствору (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електрисање јона у раств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189080" y="3657600"/>
            <a:ext cx="6253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274680" y="4437000"/>
            <a:ext cx="792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2Al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3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0,1 mol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182520" y="512136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½ (0,2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,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½ (1,8  + 1,2) =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182520" y="1096920"/>
            <a:ext cx="864072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зрачунај јонску силу 0,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Cl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182520" y="2938320"/>
            <a:ext cx="813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½ (0,2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½ (0,8  + 0,4) =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6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457200" y="2316240"/>
            <a:ext cx="5832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Mg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2Cl</a:t>
            </a:r>
            <a:r>
              <a:rPr b="0" lang="sr-Latn-CS" sz="2800" spc="-1" strike="noStrike" baseline="46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0,2 mol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182520" y="3641760"/>
            <a:ext cx="84978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ј јонску силу 0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2771640" y="1220760"/>
            <a:ext cx="38894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ктор активитета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182520" y="2103480"/>
            <a:ext cx="88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a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kel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ски су израчунали зависност  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 активите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од његовог наелектрисања и јонске јачи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5029200" y="3879720"/>
            <a:ext cx="367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z – </a:t>
            </a:r>
            <a:r>
              <a:rPr b="0" lang="en-U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наелектрисање ј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I</a:t>
            </a:r>
            <a:r>
              <a:rPr b="0" lang="sr-Latn-C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јонска јачина</a:t>
            </a:r>
            <a:r>
              <a:rPr b="0" lang="sr-R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182520" y="5253120"/>
            <a:ext cx="842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зблаженим растворима (I ≤ 0,01  mol/L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12"/>
          <p:cNvGraphicFramePr/>
          <p:nvPr/>
        </p:nvGraphicFramePr>
        <p:xfrm>
          <a:off x="1006560" y="3716280"/>
          <a:ext cx="332748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3716280"/>
                    <a:ext cx="33274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13"/>
          <p:cNvGraphicFramePr/>
          <p:nvPr/>
        </p:nvGraphicFramePr>
        <p:xfrm>
          <a:off x="1279440" y="5851440"/>
          <a:ext cx="340704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9440" y="5851440"/>
                    <a:ext cx="340704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182520" y="992160"/>
            <a:ext cx="8893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тет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01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-19080" y="30924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½ (0,01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,0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½ (0,04  + 0,04) = 0,0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206960" y="4206960"/>
            <a:ext cx="23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≈ 0,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274680" y="52117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1 mol/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48 =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0048 mol/dm</a:t>
            </a:r>
            <a:r>
              <a:rPr b="0" lang="sr-Latn-C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7"/>
          <p:cNvGraphicFramePr/>
          <p:nvPr/>
        </p:nvGraphicFramePr>
        <p:xfrm>
          <a:off x="274680" y="4022640"/>
          <a:ext cx="291132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4022640"/>
                    <a:ext cx="29113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Rectangle 1"/>
          <p:cNvSpPr/>
          <p:nvPr/>
        </p:nvSpPr>
        <p:spPr>
          <a:xfrm>
            <a:off x="182520" y="2427120"/>
            <a:ext cx="737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Mg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0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Diagram 4" descr=""/>
          <p:cNvPicPr/>
          <p:nvPr/>
        </p:nvPicPr>
        <p:blipFill>
          <a:blip r:embed="rId1"/>
          <a:stretch/>
        </p:blipFill>
        <p:spPr>
          <a:xfrm>
            <a:off x="1390680" y="1847880"/>
            <a:ext cx="6119640" cy="4059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2"/>
          <p:cNvSpPr/>
          <p:nvPr/>
        </p:nvSpPr>
        <p:spPr>
          <a:xfrm>
            <a:off x="2687760" y="112536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емијска равноте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4"/>
          <p:cNvSpPr/>
          <p:nvPr/>
        </p:nvSpPr>
        <p:spPr>
          <a:xfrm>
            <a:off x="3143160" y="1189080"/>
            <a:ext cx="30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ени удео (</a:t>
            </a:r>
            <a:r>
              <a:rPr b="1" i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82520" y="5029200"/>
            <a:ext cx="8458200" cy="1099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5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ени удео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центна концентра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број грама растворене супстанце у 100 </a:t>
            </a:r>
            <a:r>
              <a:rPr b="1" lang="en-U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g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 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1"/>
          <a:stretch/>
        </p:blipFill>
        <p:spPr>
          <a:xfrm>
            <a:off x="457200" y="2011320"/>
            <a:ext cx="758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Rounded Rectangle 4"/>
          <p:cNvGrpSpPr/>
          <p:nvPr/>
        </p:nvGrpSpPr>
        <p:grpSpPr>
          <a:xfrm>
            <a:off x="304920" y="1122480"/>
            <a:ext cx="4236840" cy="1296720"/>
            <a:chOff x="304920" y="1122480"/>
            <a:chExt cx="4236840" cy="1296720"/>
          </a:xfrm>
        </p:grpSpPr>
        <p:pic>
          <p:nvPicPr>
            <p:cNvPr id="31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04920" y="1122480"/>
              <a:ext cx="4236840" cy="12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365040" y="1266840"/>
              <a:ext cx="4114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110520" bIns="11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РЕВЕРЗИБИЛНЕ (КОНАЧНЕ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1" name="Object 2"/>
          <p:cNvGraphicFramePr/>
          <p:nvPr/>
        </p:nvGraphicFramePr>
        <p:xfrm>
          <a:off x="457200" y="2844720"/>
          <a:ext cx="3749760" cy="37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844720"/>
                    <a:ext cx="374976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Box 7"/>
          <p:cNvSpPr/>
          <p:nvPr/>
        </p:nvSpPr>
        <p:spPr>
          <a:xfrm>
            <a:off x="1271520" y="3182760"/>
            <a:ext cx="24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е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4"/>
          <p:cNvGrpSpPr/>
          <p:nvPr/>
        </p:nvGrpSpPr>
        <p:grpSpPr>
          <a:xfrm>
            <a:off x="304920" y="3943440"/>
            <a:ext cx="4236840" cy="1293840"/>
            <a:chOff x="304920" y="3943440"/>
            <a:chExt cx="4236840" cy="1293840"/>
          </a:xfrm>
        </p:grpSpPr>
        <p:pic>
          <p:nvPicPr>
            <p:cNvPr id="325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304920" y="3943440"/>
              <a:ext cx="423684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365040" y="4086360"/>
              <a:ext cx="411480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110520" bIns="11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ВЕРЗИБИЛНЕ (ПОВРАТНЕ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7" name="Object 3"/>
          <p:cNvGraphicFramePr/>
          <p:nvPr/>
        </p:nvGraphicFramePr>
        <p:xfrm>
          <a:off x="457200" y="6067440"/>
          <a:ext cx="356544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6067440"/>
                    <a:ext cx="35654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4"/>
          <p:cNvGraphicFramePr/>
          <p:nvPr/>
        </p:nvGraphicFramePr>
        <p:xfrm>
          <a:off x="457200" y="5267160"/>
          <a:ext cx="3932280" cy="42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267160"/>
                    <a:ext cx="39322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Rounded Rectangle 11"/>
          <p:cNvSpPr/>
          <p:nvPr/>
        </p:nvSpPr>
        <p:spPr>
          <a:xfrm>
            <a:off x="1782720" y="5068800"/>
            <a:ext cx="1281240" cy="838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349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ight Arrow 9"/>
          <p:cNvSpPr/>
          <p:nvPr/>
        </p:nvSpPr>
        <p:spPr>
          <a:xfrm>
            <a:off x="6218280" y="1557360"/>
            <a:ext cx="1461960" cy="3650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ight Arrow 10"/>
          <p:cNvSpPr/>
          <p:nvPr/>
        </p:nvSpPr>
        <p:spPr>
          <a:xfrm>
            <a:off x="6218280" y="4095720"/>
            <a:ext cx="1461960" cy="380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ight Arrow 12"/>
          <p:cNvSpPr/>
          <p:nvPr/>
        </p:nvSpPr>
        <p:spPr>
          <a:xfrm rot="10800000">
            <a:off x="6217920" y="4462560"/>
            <a:ext cx="1461960" cy="380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"/>
          <p:cNvSpPr/>
          <p:nvPr/>
        </p:nvSpPr>
        <p:spPr>
          <a:xfrm>
            <a:off x="495720" y="2128680"/>
            <a:ext cx="38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  +  В</a:t>
            </a:r>
            <a:r>
              <a:rPr b="1" lang="sr-RS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  +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Straight Arrow Connector 3"/>
          <p:cNvCxnSpPr/>
          <p:nvPr/>
        </p:nvCxnSpPr>
        <p:spPr>
          <a:xfrm>
            <a:off x="2063520" y="2420640"/>
            <a:ext cx="719640" cy="108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"/>
          <p:cNvSpPr/>
          <p:nvPr/>
        </p:nvSpPr>
        <p:spPr>
          <a:xfrm>
            <a:off x="611280" y="1197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 о дејству маса –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uldberg-Waage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ов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179280" y="2011320"/>
            <a:ext cx="8785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стантној температури (T = const), брзина хемијске реакције је управо пропорционална производу концентрација реактана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20"/>
          <p:cNvGrpSpPr/>
          <p:nvPr/>
        </p:nvGrpSpPr>
        <p:grpSpPr>
          <a:xfrm>
            <a:off x="1831320" y="3541680"/>
            <a:ext cx="4725720" cy="581400"/>
            <a:chOff x="1831320" y="3541680"/>
            <a:chExt cx="4725720" cy="581400"/>
          </a:xfrm>
        </p:grpSpPr>
        <p:sp>
          <p:nvSpPr>
            <p:cNvPr id="340" name="Rectangle 16"/>
            <p:cNvSpPr/>
            <p:nvPr/>
          </p:nvSpPr>
          <p:spPr>
            <a:xfrm>
              <a:off x="1831320" y="3541680"/>
              <a:ext cx="15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A + </a:t>
              </a:r>
              <a:r>
                <a:rPr b="1" i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b</a:t>
              </a:r>
              <a:r>
                <a:rPr b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7"/>
            <p:cNvSpPr/>
            <p:nvPr/>
          </p:nvSpPr>
          <p:spPr>
            <a:xfrm>
              <a:off x="4966560" y="3541680"/>
              <a:ext cx="15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C + </a:t>
              </a:r>
              <a:r>
                <a:rPr b="1" i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d</a:t>
              </a:r>
              <a:r>
                <a:rPr b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equilibrium"/>
            <p:cNvPicPr/>
            <p:nvPr/>
          </p:nvPicPr>
          <p:blipFill>
            <a:blip r:embed="rId1"/>
            <a:stretch/>
          </p:blipFill>
          <p:spPr>
            <a:xfrm>
              <a:off x="3595680" y="3737160"/>
              <a:ext cx="1244520" cy="19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TextBox 9"/>
          <p:cNvGrpSpPr/>
          <p:nvPr/>
        </p:nvGrpSpPr>
        <p:grpSpPr>
          <a:xfrm>
            <a:off x="3144960" y="4303800"/>
            <a:ext cx="2298600" cy="761760"/>
            <a:chOff x="3144960" y="4303800"/>
            <a:chExt cx="2298600" cy="761760"/>
          </a:xfrm>
        </p:grpSpPr>
        <p:pic>
          <p:nvPicPr>
            <p:cNvPr id="344" name="TextBox 9" descr=""/>
            <p:cNvPicPr/>
            <p:nvPr/>
          </p:nvPicPr>
          <p:blipFill>
            <a:blip r:embed="rId2"/>
            <a:stretch/>
          </p:blipFill>
          <p:spPr>
            <a:xfrm>
              <a:off x="3144960" y="4303800"/>
              <a:ext cx="229860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3260880" y="4373640"/>
              <a:ext cx="2122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A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B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Rectangle 10"/>
          <p:cNvSpPr/>
          <p:nvPr/>
        </p:nvSpPr>
        <p:spPr>
          <a:xfrm>
            <a:off x="3979080" y="3373560"/>
            <a:ext cx="33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223920" y="5292720"/>
            <a:ext cx="80182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нстанта брзине реакц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] и [B]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ларне концентрације реактаната (mol/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ехиометријски коефицијенти из хемијске реакциј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0"/>
          <p:cNvGrpSpPr/>
          <p:nvPr/>
        </p:nvGrpSpPr>
        <p:grpSpPr>
          <a:xfrm>
            <a:off x="2130480" y="1557360"/>
            <a:ext cx="4802400" cy="581400"/>
            <a:chOff x="2130480" y="1557360"/>
            <a:chExt cx="4802400" cy="581400"/>
          </a:xfrm>
        </p:grpSpPr>
        <p:sp>
          <p:nvSpPr>
            <p:cNvPr id="349" name="Rectangle 16"/>
            <p:cNvSpPr/>
            <p:nvPr/>
          </p:nvSpPr>
          <p:spPr>
            <a:xfrm>
              <a:off x="2130480" y="1557360"/>
              <a:ext cx="172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72428"/>
                  </a:solidFill>
                  <a:latin typeface="Constantia"/>
                </a:rPr>
                <a:t>a</a:t>
              </a:r>
              <a:r>
                <a:rPr b="1" lang="en-US" sz="3200" spc="-1" strike="noStrike">
                  <a:solidFill>
                    <a:srgbClr val="072428"/>
                  </a:solidFill>
                  <a:latin typeface="Constantia"/>
                </a:rPr>
                <a:t>A + </a:t>
              </a:r>
              <a:r>
                <a:rPr b="1" i="1" lang="en-US" sz="3200" spc="-1" strike="noStrike">
                  <a:solidFill>
                    <a:srgbClr val="072428"/>
                  </a:solidFill>
                  <a:latin typeface="Constantia"/>
                </a:rPr>
                <a:t>b</a:t>
              </a:r>
              <a:r>
                <a:rPr b="1" lang="en-US" sz="3200" spc="-1" strike="noStrike">
                  <a:solidFill>
                    <a:srgbClr val="072428"/>
                  </a:solidFill>
                  <a:latin typeface="Constantia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5244480" y="1557360"/>
              <a:ext cx="168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72428"/>
                  </a:solidFill>
                  <a:latin typeface="Constantia"/>
                </a:rPr>
                <a:t>c</a:t>
              </a:r>
              <a:r>
                <a:rPr b="1" lang="en-US" sz="3200" spc="-1" strike="noStrike">
                  <a:solidFill>
                    <a:srgbClr val="072428"/>
                  </a:solidFill>
                  <a:latin typeface="Constantia"/>
                </a:rPr>
                <a:t>C + </a:t>
              </a:r>
              <a:r>
                <a:rPr b="1" i="1" lang="en-US" sz="3200" spc="-1" strike="noStrike">
                  <a:solidFill>
                    <a:srgbClr val="072428"/>
                  </a:solidFill>
                  <a:latin typeface="Constantia"/>
                </a:rPr>
                <a:t>d</a:t>
              </a:r>
              <a:r>
                <a:rPr b="1" lang="en-US" sz="3200" spc="-1" strike="noStrike">
                  <a:solidFill>
                    <a:srgbClr val="072428"/>
                  </a:solidFill>
                  <a:latin typeface="Constanti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18" descr="equilibrium"/>
            <p:cNvPicPr/>
            <p:nvPr/>
          </p:nvPicPr>
          <p:blipFill>
            <a:blip r:embed="rId1"/>
            <a:stretch/>
          </p:blipFill>
          <p:spPr>
            <a:xfrm>
              <a:off x="4008240" y="1752840"/>
              <a:ext cx="1244520" cy="19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22"/>
          <p:cNvGrpSpPr/>
          <p:nvPr/>
        </p:nvGrpSpPr>
        <p:grpSpPr>
          <a:xfrm>
            <a:off x="2130480" y="2205000"/>
            <a:ext cx="4802400" cy="695160"/>
            <a:chOff x="2130480" y="2205000"/>
            <a:chExt cx="4802400" cy="695160"/>
          </a:xfrm>
        </p:grpSpPr>
        <p:grpSp>
          <p:nvGrpSpPr>
            <p:cNvPr id="353" name="Group 20"/>
            <p:cNvGrpSpPr/>
            <p:nvPr/>
          </p:nvGrpSpPr>
          <p:grpSpPr>
            <a:xfrm>
              <a:off x="2130480" y="2318760"/>
              <a:ext cx="4802400" cy="581400"/>
              <a:chOff x="2130480" y="2318760"/>
              <a:chExt cx="4802400" cy="581400"/>
            </a:xfrm>
          </p:grpSpPr>
          <p:sp>
            <p:nvSpPr>
              <p:cNvPr id="354" name="Rectangle 16"/>
              <p:cNvSpPr/>
              <p:nvPr/>
            </p:nvSpPr>
            <p:spPr>
              <a:xfrm>
                <a:off x="2130480" y="2318760"/>
                <a:ext cx="1721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a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A + </a:t>
                </a: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b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7"/>
              <p:cNvSpPr/>
              <p:nvPr/>
            </p:nvSpPr>
            <p:spPr>
              <a:xfrm>
                <a:off x="5244480" y="2318760"/>
                <a:ext cx="1688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c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C + </a:t>
                </a: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d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TextBox 14"/>
            <p:cNvSpPr/>
            <p:nvPr/>
          </p:nvSpPr>
          <p:spPr>
            <a:xfrm>
              <a:off x="4305240" y="22050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Constantia"/>
                </a:rPr>
                <a:t>V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23"/>
          <p:cNvGrpSpPr/>
          <p:nvPr/>
        </p:nvGrpSpPr>
        <p:grpSpPr>
          <a:xfrm>
            <a:off x="1716120" y="2895480"/>
            <a:ext cx="5788080" cy="1114560"/>
            <a:chOff x="1716120" y="2895480"/>
            <a:chExt cx="5788080" cy="1114560"/>
          </a:xfrm>
        </p:grpSpPr>
        <p:grpSp>
          <p:nvGrpSpPr>
            <p:cNvPr id="358" name="Group 20"/>
            <p:cNvGrpSpPr/>
            <p:nvPr/>
          </p:nvGrpSpPr>
          <p:grpSpPr>
            <a:xfrm>
              <a:off x="1716120" y="2941200"/>
              <a:ext cx="5788080" cy="1068840"/>
              <a:chOff x="1716120" y="2941200"/>
              <a:chExt cx="5788080" cy="1068840"/>
            </a:xfrm>
          </p:grpSpPr>
          <p:sp>
            <p:nvSpPr>
              <p:cNvPr id="359" name="Rectangle 16"/>
              <p:cNvSpPr/>
              <p:nvPr/>
            </p:nvSpPr>
            <p:spPr>
              <a:xfrm>
                <a:off x="2051280" y="3077280"/>
                <a:ext cx="183960" cy="57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7"/>
              <p:cNvSpPr/>
              <p:nvPr/>
            </p:nvSpPr>
            <p:spPr>
              <a:xfrm>
                <a:off x="1716120" y="2941200"/>
                <a:ext cx="5788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c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C + </a:t>
                </a: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dD</a:t>
                </a:r>
                <a:r>
                  <a:rPr b="1" lang="sr-Latn-CS" sz="3200" spc="-1" strike="noStrike">
                    <a:solidFill>
                      <a:srgbClr val="072428"/>
                    </a:solidFill>
                    <a:latin typeface="Constantia"/>
                  </a:rPr>
                  <a:t>                   </a:t>
                </a: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a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A + </a:t>
                </a: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b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61" name="Straight Arrow Connector 19"/>
            <p:cNvCxnSpPr/>
            <p:nvPr/>
          </p:nvCxnSpPr>
          <p:spPr>
            <a:xfrm flipV="1">
              <a:off x="4000680" y="3344040"/>
              <a:ext cx="1219680" cy="13320"/>
            </a:xfrm>
            <a:prstGeom prst="straightConnector1">
              <a:avLst/>
            </a:prstGeom>
            <a:ln w="38160">
              <a:solidFill>
                <a:srgbClr val="0d0d0d"/>
              </a:solidFill>
              <a:miter/>
              <a:tailEnd len="med" type="arrow" w="med"/>
            </a:ln>
          </p:spPr>
        </p:cxnSp>
        <p:sp>
          <p:nvSpPr>
            <p:cNvPr id="362" name="TextBox 20"/>
            <p:cNvSpPr/>
            <p:nvPr/>
          </p:nvSpPr>
          <p:spPr>
            <a:xfrm>
              <a:off x="4249800" y="289548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Constantia"/>
                </a:rPr>
                <a:t>V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Constant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TextBox 24"/>
          <p:cNvGrpSpPr/>
          <p:nvPr/>
        </p:nvGrpSpPr>
        <p:grpSpPr>
          <a:xfrm>
            <a:off x="212760" y="4443480"/>
            <a:ext cx="2805120" cy="757080"/>
            <a:chOff x="212760" y="4443480"/>
            <a:chExt cx="2805120" cy="757080"/>
          </a:xfrm>
        </p:grpSpPr>
        <p:pic>
          <p:nvPicPr>
            <p:cNvPr id="364" name="TextBox 24" descr=""/>
            <p:cNvPicPr/>
            <p:nvPr/>
          </p:nvPicPr>
          <p:blipFill>
            <a:blip r:embed="rId2"/>
            <a:stretch/>
          </p:blipFill>
          <p:spPr>
            <a:xfrm>
              <a:off x="212760" y="4443480"/>
              <a:ext cx="28051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365040" y="450864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A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B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Box 25"/>
          <p:cNvSpPr/>
          <p:nvPr/>
        </p:nvSpPr>
        <p:spPr>
          <a:xfrm>
            <a:off x="182520" y="3754440"/>
            <a:ext cx="45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мо закон о дејству ма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TextBox 26"/>
          <p:cNvGrpSpPr/>
          <p:nvPr/>
        </p:nvGrpSpPr>
        <p:grpSpPr>
          <a:xfrm>
            <a:off x="212760" y="5016600"/>
            <a:ext cx="2805120" cy="761760"/>
            <a:chOff x="212760" y="5016600"/>
            <a:chExt cx="2805120" cy="761760"/>
          </a:xfrm>
        </p:grpSpPr>
        <p:pic>
          <p:nvPicPr>
            <p:cNvPr id="368" name="TextBox 26" descr=""/>
            <p:cNvPicPr/>
            <p:nvPr/>
          </p:nvPicPr>
          <p:blipFill>
            <a:blip r:embed="rId3"/>
            <a:stretch/>
          </p:blipFill>
          <p:spPr>
            <a:xfrm>
              <a:off x="212760" y="5016600"/>
              <a:ext cx="2805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65040" y="508464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C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D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TextBox 27"/>
          <p:cNvGrpSpPr/>
          <p:nvPr/>
        </p:nvGrpSpPr>
        <p:grpSpPr>
          <a:xfrm>
            <a:off x="291960" y="5578560"/>
            <a:ext cx="1586160" cy="865080"/>
            <a:chOff x="291960" y="5578560"/>
            <a:chExt cx="1586160" cy="865080"/>
          </a:xfrm>
        </p:grpSpPr>
        <p:pic>
          <p:nvPicPr>
            <p:cNvPr id="371" name="TextBox 27" descr=""/>
            <p:cNvPicPr/>
            <p:nvPr/>
          </p:nvPicPr>
          <p:blipFill>
            <a:blip r:embed="rId4"/>
            <a:stretch/>
          </p:blipFill>
          <p:spPr>
            <a:xfrm>
              <a:off x="291960" y="5578560"/>
              <a:ext cx="15861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365040" y="5661000"/>
              <a:ext cx="144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ounded Rectangle 4"/>
          <p:cNvSpPr/>
          <p:nvPr/>
        </p:nvSpPr>
        <p:spPr>
          <a:xfrm>
            <a:off x="1495440" y="1012680"/>
            <a:ext cx="6229440" cy="385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0520" rIns="110520" tIns="110520" bIns="11052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внотежа у хомогеним систем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5"/>
          <a:stretch/>
        </p:blipFill>
        <p:spPr>
          <a:xfrm>
            <a:off x="4664160" y="3930480"/>
            <a:ext cx="4341600" cy="2738520"/>
          </a:xfrm>
          <a:prstGeom prst="rect">
            <a:avLst/>
          </a:prstGeom>
          <a:ln w="0">
            <a:noFill/>
          </a:ln>
        </p:spPr>
      </p:pic>
      <p:sp>
        <p:nvSpPr>
          <p:cNvPr id="375" name="Oval 29"/>
          <p:cNvSpPr/>
          <p:nvPr/>
        </p:nvSpPr>
        <p:spPr>
          <a:xfrm>
            <a:off x="7020000" y="4591080"/>
            <a:ext cx="1800000" cy="82224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28"/>
          <p:cNvCxnSpPr/>
          <p:nvPr/>
        </p:nvCxnSpPr>
        <p:spPr>
          <a:xfrm flipV="1">
            <a:off x="3990600" y="2637720"/>
            <a:ext cx="1220040" cy="133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TextBox 3"/>
          <p:cNvGrpSpPr/>
          <p:nvPr/>
        </p:nvGrpSpPr>
        <p:grpSpPr>
          <a:xfrm>
            <a:off x="2498760" y="1341360"/>
            <a:ext cx="3620880" cy="779400"/>
            <a:chOff x="2498760" y="1341360"/>
            <a:chExt cx="3620880" cy="779400"/>
          </a:xfrm>
        </p:grpSpPr>
        <p:pic>
          <p:nvPicPr>
            <p:cNvPr id="378" name="TextBox 3" descr=""/>
            <p:cNvPicPr/>
            <p:nvPr/>
          </p:nvPicPr>
          <p:blipFill>
            <a:blip r:embed="rId1"/>
            <a:stretch/>
          </p:blipFill>
          <p:spPr>
            <a:xfrm>
              <a:off x="2498760" y="1341360"/>
              <a:ext cx="362088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627280" y="1413000"/>
              <a:ext cx="34290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sr-Latn-CS" sz="2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A]</a:t>
              </a:r>
              <a:r>
                <a:rPr b="1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B]</a:t>
              </a:r>
              <a:r>
                <a:rPr b="1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C]</a:t>
              </a:r>
              <a:r>
                <a:rPr b="1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D]</a:t>
              </a:r>
              <a:r>
                <a:rPr b="1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1" lang="sr-Latn-C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0" name="Object 3"/>
          <p:cNvGraphicFramePr/>
          <p:nvPr/>
        </p:nvGraphicFramePr>
        <p:xfrm>
          <a:off x="3087720" y="2382840"/>
          <a:ext cx="257328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87720" y="2382840"/>
                    <a:ext cx="257328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Oval 6"/>
          <p:cNvSpPr/>
          <p:nvPr/>
        </p:nvSpPr>
        <p:spPr>
          <a:xfrm>
            <a:off x="3059280" y="2133720"/>
            <a:ext cx="649080" cy="1601640"/>
          </a:xfrm>
          <a:prstGeom prst="ellipse">
            <a:avLst/>
          </a:prstGeom>
          <a:noFill/>
          <a:ln w="3816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611280" y="3429000"/>
            <a:ext cx="18000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9"/>
          <p:cNvCxnSpPr/>
          <p:nvPr/>
        </p:nvCxnSpPr>
        <p:spPr>
          <a:xfrm flipV="1">
            <a:off x="2050920" y="3239640"/>
            <a:ext cx="883440" cy="3564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385" name="Object 4"/>
          <p:cNvGraphicFramePr/>
          <p:nvPr/>
        </p:nvGraphicFramePr>
        <p:xfrm>
          <a:off x="822240" y="4114800"/>
          <a:ext cx="3456000" cy="100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240" y="4114800"/>
                    <a:ext cx="34560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Box 11"/>
          <p:cNvSpPr/>
          <p:nvPr/>
        </p:nvSpPr>
        <p:spPr>
          <a:xfrm>
            <a:off x="4932360" y="4206960"/>
            <a:ext cx="350532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равнотеж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2"/>
          <p:cNvSpPr/>
          <p:nvPr/>
        </p:nvSpPr>
        <p:spPr>
          <a:xfrm>
            <a:off x="274680" y="5578560"/>
            <a:ext cx="619128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константе равнотеж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0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2"/>
          <p:cNvSpPr/>
          <p:nvPr/>
        </p:nvSpPr>
        <p:spPr>
          <a:xfrm>
            <a:off x="274680" y="6126120"/>
            <a:ext cx="829152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константе равнотеже  зависи од </a:t>
            </a: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ператур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5121360" y="2743200"/>
            <a:ext cx="4022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&gt; 1, производи су доминантни у равнотеж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5121360" y="5486400"/>
            <a:ext cx="4022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440" indent="-55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K &lt;&lt; 1, реактанти су          доминантни у равнотеж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1584360" y="453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TextBox 12"/>
          <p:cNvGrpSpPr/>
          <p:nvPr/>
        </p:nvGrpSpPr>
        <p:grpSpPr>
          <a:xfrm>
            <a:off x="1463760" y="2614680"/>
            <a:ext cx="2163600" cy="1189080"/>
            <a:chOff x="1463760" y="2614680"/>
            <a:chExt cx="2163600" cy="1189080"/>
          </a:xfrm>
        </p:grpSpPr>
        <p:pic>
          <p:nvPicPr>
            <p:cNvPr id="394" name="TextBox 12" descr=""/>
            <p:cNvPicPr/>
            <p:nvPr/>
          </p:nvPicPr>
          <p:blipFill>
            <a:blip r:embed="rId1"/>
            <a:stretch/>
          </p:blipFill>
          <p:spPr>
            <a:xfrm>
              <a:off x="1463760" y="2614680"/>
              <a:ext cx="21636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1736640" y="274320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 &gt;&gt;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TextBox 13"/>
          <p:cNvGrpSpPr/>
          <p:nvPr/>
        </p:nvGrpSpPr>
        <p:grpSpPr>
          <a:xfrm>
            <a:off x="1463760" y="5357880"/>
            <a:ext cx="2346120" cy="1189080"/>
            <a:chOff x="1463760" y="5357880"/>
            <a:chExt cx="2346120" cy="1189080"/>
          </a:xfrm>
        </p:grpSpPr>
        <p:pic>
          <p:nvPicPr>
            <p:cNvPr id="397" name="TextBox 13" descr=""/>
            <p:cNvPicPr/>
            <p:nvPr/>
          </p:nvPicPr>
          <p:blipFill>
            <a:blip r:embed="rId2"/>
            <a:stretch/>
          </p:blipFill>
          <p:spPr>
            <a:xfrm>
              <a:off x="1463760" y="5357880"/>
              <a:ext cx="2346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1736640" y="5486400"/>
              <a:ext cx="201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 &lt;&lt;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9" name="Object 13"/>
          <p:cNvGraphicFramePr/>
          <p:nvPr/>
        </p:nvGraphicFramePr>
        <p:xfrm>
          <a:off x="289080" y="1254240"/>
          <a:ext cx="4643280" cy="13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080" y="1254240"/>
                    <a:ext cx="46432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4"/>
          <p:cNvGraphicFramePr/>
          <p:nvPr/>
        </p:nvGraphicFramePr>
        <p:xfrm>
          <a:off x="324000" y="4005360"/>
          <a:ext cx="473688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4005360"/>
                    <a:ext cx="47368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Box 10"/>
          <p:cNvSpPr/>
          <p:nvPr/>
        </p:nvSpPr>
        <p:spPr>
          <a:xfrm>
            <a:off x="395280" y="2060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а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1"/>
          <p:cNvSpPr/>
          <p:nvPr/>
        </p:nvSpPr>
        <p:spPr>
          <a:xfrm>
            <a:off x="3348000" y="20210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4"/>
          <p:cNvSpPr/>
          <p:nvPr/>
        </p:nvSpPr>
        <p:spPr>
          <a:xfrm>
            <a:off x="468360" y="47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а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5"/>
          <p:cNvSpPr/>
          <p:nvPr/>
        </p:nvSpPr>
        <p:spPr>
          <a:xfrm>
            <a:off x="3419640" y="482904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4"/>
          <p:cNvSpPr/>
          <p:nvPr/>
        </p:nvSpPr>
        <p:spPr>
          <a:xfrm>
            <a:off x="611280" y="1268280"/>
            <a:ext cx="77724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Фактори од којих зависи хемијска равноте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274680" y="2637000"/>
            <a:ext cx="869004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мена концентрације реактаната или произво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мена темп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мена притиска (ако су реактанти ил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совитом агрегатном стањ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суство катализ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1817640" cy="193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5330880" y="308124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ri Le Chatel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0-19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2411280" y="1176480"/>
            <a:ext cx="4176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</a:rPr>
              <a:t>Le Chatelier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-ов принци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Rectangle 9"/>
          <p:cNvGrpSpPr/>
          <p:nvPr/>
        </p:nvGrpSpPr>
        <p:grpSpPr>
          <a:xfrm>
            <a:off x="23760" y="4773600"/>
            <a:ext cx="9139320" cy="1548000"/>
            <a:chOff x="23760" y="4773600"/>
            <a:chExt cx="9139320" cy="1548000"/>
          </a:xfrm>
        </p:grpSpPr>
        <p:pic>
          <p:nvPicPr>
            <p:cNvPr id="413" name="Rectangle 9" descr=""/>
            <p:cNvPicPr/>
            <p:nvPr/>
          </p:nvPicPr>
          <p:blipFill>
            <a:blip r:embed="rId2"/>
            <a:stretch/>
          </p:blipFill>
          <p:spPr>
            <a:xfrm>
              <a:off x="23760" y="4773600"/>
              <a:ext cx="913932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182520" y="4846680"/>
              <a:ext cx="882036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Ако се систему који се налази у равнотежи промени неки од спољашњих услова, систем ће се супроставити промени да би успоставио ново равнотежно стање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7"/>
          <p:cNvSpPr/>
          <p:nvPr/>
        </p:nvSpPr>
        <p:spPr>
          <a:xfrm>
            <a:off x="182520" y="4114800"/>
            <a:ext cx="3884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c00000"/>
                </a:solidFill>
                <a:latin typeface="Times New Roman"/>
              </a:rPr>
              <a:t>1884.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годин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</a:rPr>
              <a:t> Le Chateli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Rectangle 5"/>
          <p:cNvGrpSpPr/>
          <p:nvPr/>
        </p:nvGrpSpPr>
        <p:grpSpPr>
          <a:xfrm>
            <a:off x="122400" y="1616040"/>
            <a:ext cx="6168960" cy="865080"/>
            <a:chOff x="122400" y="1616040"/>
            <a:chExt cx="6168960" cy="865080"/>
          </a:xfrm>
        </p:grpSpPr>
        <p:pic>
          <p:nvPicPr>
            <p:cNvPr id="417" name="Rectangle 5" descr=""/>
            <p:cNvPicPr/>
            <p:nvPr/>
          </p:nvPicPr>
          <p:blipFill>
            <a:blip r:embed="rId1"/>
            <a:stretch/>
          </p:blipFill>
          <p:spPr>
            <a:xfrm>
              <a:off x="122400" y="1616040"/>
              <a:ext cx="61689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306000" y="1695600"/>
              <a:ext cx="58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омера се равнотежа, </a:t>
              </a:r>
              <a:r>
                <a:rPr b="1" lang="ru-RU" sz="2800" spc="-1" strike="noStrike">
                  <a:solidFill>
                    <a:srgbClr val="c00000"/>
                  </a:solidFill>
                  <a:latin typeface="Times New Roman"/>
                </a:rPr>
                <a:t>K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се не мењ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1979640" y="2432160"/>
                <a:ext cx="46483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3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⇔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" name="Text Box 7"/>
          <p:cNvSpPr/>
          <p:nvPr/>
        </p:nvSpPr>
        <p:spPr>
          <a:xfrm>
            <a:off x="917640" y="32590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914400" y="378936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9"/>
          <p:cNvSpPr/>
          <p:nvPr/>
        </p:nvSpPr>
        <p:spPr>
          <a:xfrm>
            <a:off x="2011320" y="3500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0"/>
          <p:cNvSpPr/>
          <p:nvPr/>
        </p:nvSpPr>
        <p:spPr>
          <a:xfrm>
            <a:off x="2011320" y="4076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917640" y="436572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"/>
          <p:cNvSpPr/>
          <p:nvPr/>
        </p:nvSpPr>
        <p:spPr>
          <a:xfrm flipH="1">
            <a:off x="2010960" y="4651200"/>
            <a:ext cx="13208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917640" y="494172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 flipH="1" flipV="1">
            <a:off x="2010960" y="5224320"/>
            <a:ext cx="133524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5"/>
          <p:cNvSpPr/>
          <p:nvPr/>
        </p:nvSpPr>
        <p:spPr>
          <a:xfrm>
            <a:off x="684360" y="551664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684360" y="6140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Text Box 19"/>
          <p:cNvGrpSpPr/>
          <p:nvPr/>
        </p:nvGrpSpPr>
        <p:grpSpPr>
          <a:xfrm>
            <a:off x="3846600" y="3157560"/>
            <a:ext cx="5089320" cy="1859040"/>
            <a:chOff x="3846600" y="3157560"/>
            <a:chExt cx="5089320" cy="1859040"/>
          </a:xfrm>
        </p:grpSpPr>
        <p:pic>
          <p:nvPicPr>
            <p:cNvPr id="431" name="Text Box 19" descr=""/>
            <p:cNvPicPr/>
            <p:nvPr/>
          </p:nvPicPr>
          <p:blipFill>
            <a:blip r:embed="rId2"/>
            <a:stretch/>
          </p:blipFill>
          <p:spPr>
            <a:xfrm>
              <a:off x="3846600" y="3157560"/>
              <a:ext cx="50893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3995640" y="3227400"/>
              <a:ext cx="4791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Равнотежа се може померити </a:t>
              </a:r>
              <a:br>
                <a:rPr sz="2400"/>
              </a:br>
              <a:r>
                <a:rPr b="1" lang="ru-RU" sz="2400" spc="-1" strike="noStrike" u="sng">
                  <a:solidFill>
                    <a:srgbClr val="c00000"/>
                  </a:solidFill>
                  <a:uFillTx/>
                  <a:latin typeface="Times New Roman"/>
                </a:rPr>
                <a:t>у десн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већањем концентрације реактаната или смањењем концентрације производа реакциј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Text Box 20"/>
          <p:cNvGrpSpPr/>
          <p:nvPr/>
        </p:nvGrpSpPr>
        <p:grpSpPr>
          <a:xfrm>
            <a:off x="3852720" y="4962600"/>
            <a:ext cx="5046840" cy="1987920"/>
            <a:chOff x="3852720" y="4962600"/>
            <a:chExt cx="5046840" cy="1987920"/>
          </a:xfrm>
        </p:grpSpPr>
        <p:pic>
          <p:nvPicPr>
            <p:cNvPr id="434" name="Text Box 20" descr=""/>
            <p:cNvPicPr/>
            <p:nvPr/>
          </p:nvPicPr>
          <p:blipFill>
            <a:blip r:embed="rId3"/>
            <a:stretch/>
          </p:blipFill>
          <p:spPr>
            <a:xfrm>
              <a:off x="3852720" y="4962600"/>
              <a:ext cx="504684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4003560" y="5027760"/>
              <a:ext cx="47451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Равнотежа се може померити </a:t>
              </a:r>
              <a:br>
                <a:rPr sz="2400"/>
              </a:br>
              <a:r>
                <a:rPr b="1" lang="ru-RU" sz="2400" spc="-1" strike="noStrike" u="sng">
                  <a:solidFill>
                    <a:srgbClr val="c00000"/>
                  </a:solidFill>
                  <a:uFillTx/>
                  <a:latin typeface="Times New Roman"/>
                </a:rPr>
                <a:t>у лев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мањењем концентрације реактаната или повећањем концентрације производа реакциј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Line 14"/>
          <p:cNvSpPr/>
          <p:nvPr/>
        </p:nvSpPr>
        <p:spPr>
          <a:xfrm flipH="1" flipV="1">
            <a:off x="2010960" y="5800320"/>
            <a:ext cx="133524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2011320" y="63817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"/>
          <p:cNvSpPr/>
          <p:nvPr/>
        </p:nvSpPr>
        <p:spPr>
          <a:xfrm>
            <a:off x="2622600" y="1027080"/>
            <a:ext cx="42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омена концентра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4"/>
          <p:cNvSpPr/>
          <p:nvPr/>
        </p:nvSpPr>
        <p:spPr>
          <a:xfrm>
            <a:off x="2639520" y="1052640"/>
            <a:ext cx="38095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мена температ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Rectangle 5"/>
          <p:cNvGrpSpPr/>
          <p:nvPr/>
        </p:nvGrpSpPr>
        <p:grpSpPr>
          <a:xfrm>
            <a:off x="115920" y="1847880"/>
            <a:ext cx="3870360" cy="779400"/>
            <a:chOff x="115920" y="1847880"/>
            <a:chExt cx="3870360" cy="779400"/>
          </a:xfrm>
        </p:grpSpPr>
        <p:pic>
          <p:nvPicPr>
            <p:cNvPr id="441" name="Rectangle 5" descr=""/>
            <p:cNvPicPr/>
            <p:nvPr/>
          </p:nvPicPr>
          <p:blipFill>
            <a:blip r:embed="rId1"/>
            <a:stretch/>
          </p:blipFill>
          <p:spPr>
            <a:xfrm>
              <a:off x="115920" y="1847880"/>
              <a:ext cx="38703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288720" y="1916280"/>
              <a:ext cx="3562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)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гзотермна реакциј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3" name="Object 6"/>
              <p:cNvSpPr txBox="1"/>
              <p:nvPr/>
            </p:nvSpPr>
            <p:spPr>
              <a:xfrm>
                <a:off x="1554120" y="2708280"/>
                <a:ext cx="50547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⇔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4" name="Text Box 7"/>
          <p:cNvSpPr/>
          <p:nvPr/>
        </p:nvSpPr>
        <p:spPr>
          <a:xfrm>
            <a:off x="6932520" y="2735280"/>
            <a:ext cx="16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425520" y="364644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ћањем  Т равнотежа се помера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лево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0"/>
          <p:cNvSpPr/>
          <p:nvPr/>
        </p:nvSpPr>
        <p:spPr>
          <a:xfrm flipH="1">
            <a:off x="1188720" y="388764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425520" y="4319640"/>
            <a:ext cx="842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м Т  равнотежа се помера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десно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2"/>
          <p:cNvSpPr/>
          <p:nvPr/>
        </p:nvSpPr>
        <p:spPr>
          <a:xfrm>
            <a:off x="1189080" y="453564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3"/>
          <p:cNvSpPr/>
          <p:nvPr/>
        </p:nvSpPr>
        <p:spPr>
          <a:xfrm>
            <a:off x="3429000" y="561348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Text Box 14"/>
          <p:cNvGrpSpPr/>
          <p:nvPr/>
        </p:nvGrpSpPr>
        <p:grpSpPr>
          <a:xfrm>
            <a:off x="3571920" y="4943520"/>
            <a:ext cx="2085840" cy="780840"/>
            <a:chOff x="3571920" y="4943520"/>
            <a:chExt cx="2085840" cy="780840"/>
          </a:xfrm>
        </p:grpSpPr>
        <p:pic>
          <p:nvPicPr>
            <p:cNvPr id="451" name="Text Box 14" descr=""/>
            <p:cNvPicPr/>
            <p:nvPr/>
          </p:nvPicPr>
          <p:blipFill>
            <a:blip r:embed="rId2"/>
            <a:stretch/>
          </p:blipFill>
          <p:spPr>
            <a:xfrm>
              <a:off x="3571920" y="4943520"/>
              <a:ext cx="2085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3657600" y="5013360"/>
              <a:ext cx="1920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гзотермн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Line 15"/>
          <p:cNvSpPr/>
          <p:nvPr/>
        </p:nvSpPr>
        <p:spPr>
          <a:xfrm flipH="1">
            <a:off x="3429000" y="5842080"/>
            <a:ext cx="2449440" cy="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Text Box 16"/>
          <p:cNvGrpSpPr/>
          <p:nvPr/>
        </p:nvGrpSpPr>
        <p:grpSpPr>
          <a:xfrm>
            <a:off x="3541680" y="5907240"/>
            <a:ext cx="2152800" cy="779400"/>
            <a:chOff x="3541680" y="5907240"/>
            <a:chExt cx="2152800" cy="779400"/>
          </a:xfrm>
        </p:grpSpPr>
        <p:pic>
          <p:nvPicPr>
            <p:cNvPr id="455" name="Text Box 16" descr=""/>
            <p:cNvPicPr/>
            <p:nvPr/>
          </p:nvPicPr>
          <p:blipFill>
            <a:blip r:embed="rId3"/>
            <a:stretch/>
          </p:blipFill>
          <p:spPr>
            <a:xfrm>
              <a:off x="3541680" y="5907240"/>
              <a:ext cx="21528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3657600" y="5977080"/>
              <a:ext cx="1920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ндотермн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Rectangle 4"/>
          <p:cNvGrpSpPr/>
          <p:nvPr/>
        </p:nvGrpSpPr>
        <p:grpSpPr>
          <a:xfrm>
            <a:off x="115920" y="1487520"/>
            <a:ext cx="3943440" cy="779400"/>
            <a:chOff x="115920" y="1487520"/>
            <a:chExt cx="3943440" cy="779400"/>
          </a:xfrm>
        </p:grpSpPr>
        <p:pic>
          <p:nvPicPr>
            <p:cNvPr id="458" name="Rectangle 4" descr=""/>
            <p:cNvPicPr/>
            <p:nvPr/>
          </p:nvPicPr>
          <p:blipFill>
            <a:blip r:embed="rId1"/>
            <a:stretch/>
          </p:blipFill>
          <p:spPr>
            <a:xfrm>
              <a:off x="115920" y="1487520"/>
              <a:ext cx="39434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276120" y="1557360"/>
              <a:ext cx="3649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r>
                <a:rPr b="1" lang="sr-Latn-CS" sz="25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Ендотермна реакциј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0" name="Object 6"/>
              <p:cNvSpPr txBox="1"/>
              <p:nvPr/>
            </p:nvSpPr>
            <p:spPr>
              <a:xfrm>
                <a:off x="2100240" y="2637000"/>
                <a:ext cx="38228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2N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Text Box 7"/>
          <p:cNvSpPr/>
          <p:nvPr/>
        </p:nvSpPr>
        <p:spPr>
          <a:xfrm>
            <a:off x="6372360" y="27036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8"/>
          <p:cNvSpPr/>
          <p:nvPr/>
        </p:nvSpPr>
        <p:spPr>
          <a:xfrm flipH="1">
            <a:off x="1258560" y="505944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493560" y="4799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ањењем Т  равнотежа се помера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у ле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1258920" y="41958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468360" y="3979800"/>
            <a:ext cx="81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98760"/>
                <a:tab algn="l" pos="205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ећањем Т  равнотежа се помера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у дес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182520" y="981000"/>
            <a:ext cx="868680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налази се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рачунати процентну концентрацију раствор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: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:  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%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79280" y="3840120"/>
            <a:ext cx="860760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 растворено ј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 NaCl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ну концентрацију раствор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аствора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 g + 25 g = 3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5 g NaCl = 1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X 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6,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,6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%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Notched Right Arrow 3"/>
          <p:cNvSpPr/>
          <p:nvPr/>
        </p:nvSpPr>
        <p:spPr>
          <a:xfrm>
            <a:off x="5394240" y="3263760"/>
            <a:ext cx="366840" cy="136800"/>
          </a:xfrm>
          <a:custGeom>
            <a:avLst/>
            <a:gdLst>
              <a:gd name="textAreaLeft" fmla="*/ 33840 w 366840"/>
              <a:gd name="textAreaRight" fmla="*/ 333000 w 366840"/>
              <a:gd name="textAreaTop" fmla="*/ 34200 h 136800"/>
              <a:gd name="textAreaBottom" fmla="*/ 102600 h 136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79" y="5400"/>
                </a:lnTo>
                <a:lnTo>
                  <a:pt x="17579" y="0"/>
                </a:lnTo>
                <a:lnTo>
                  <a:pt x="21600" y="10800"/>
                </a:lnTo>
                <a:lnTo>
                  <a:pt x="17579" y="21600"/>
                </a:lnTo>
                <a:lnTo>
                  <a:pt x="17579" y="16200"/>
                </a:lnTo>
                <a:lnTo>
                  <a:pt x="0" y="16200"/>
                </a:lnTo>
                <a:lnTo>
                  <a:pt x="2011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Notched Right Arrow 4"/>
          <p:cNvSpPr/>
          <p:nvPr/>
        </p:nvSpPr>
        <p:spPr>
          <a:xfrm>
            <a:off x="4621320" y="6049800"/>
            <a:ext cx="365040" cy="136800"/>
          </a:xfrm>
          <a:custGeom>
            <a:avLst/>
            <a:gdLst>
              <a:gd name="textAreaLeft" fmla="*/ 33840 w 365040"/>
              <a:gd name="textAreaRight" fmla="*/ 331200 w 365040"/>
              <a:gd name="textAreaTop" fmla="*/ 34200 h 136800"/>
              <a:gd name="textAreaBottom" fmla="*/ 102600 h 136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62" y="5400"/>
                </a:lnTo>
                <a:lnTo>
                  <a:pt x="17562" y="0"/>
                </a:lnTo>
                <a:lnTo>
                  <a:pt x="21600" y="10800"/>
                </a:lnTo>
                <a:lnTo>
                  <a:pt x="17562" y="21600"/>
                </a:lnTo>
                <a:lnTo>
                  <a:pt x="17562" y="16200"/>
                </a:lnTo>
                <a:lnTo>
                  <a:pt x="0" y="16200"/>
                </a:lnTo>
                <a:lnTo>
                  <a:pt x="2019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4"/>
          <p:cNvSpPr/>
          <p:nvPr/>
        </p:nvSpPr>
        <p:spPr>
          <a:xfrm>
            <a:off x="2826720" y="1125360"/>
            <a:ext cx="33156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Промена прити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2"/>
              <p:cNvSpPr txBox="1"/>
              <p:nvPr/>
            </p:nvSpPr>
            <p:spPr>
              <a:xfrm>
                <a:off x="1835280" y="1981080"/>
                <a:ext cx="50544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⇔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8" name="Text Box 7"/>
          <p:cNvSpPr/>
          <p:nvPr/>
        </p:nvSpPr>
        <p:spPr>
          <a:xfrm>
            <a:off x="971640" y="40575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Straight Arrow Connector 7"/>
          <p:cNvCxnSpPr/>
          <p:nvPr/>
        </p:nvCxnSpPr>
        <p:spPr>
          <a:xfrm>
            <a:off x="1646280" y="436248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0" name="Text Box 7"/>
          <p:cNvSpPr/>
          <p:nvPr/>
        </p:nvSpPr>
        <p:spPr>
          <a:xfrm>
            <a:off x="955800" y="5353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Straight Arrow Connector 9"/>
          <p:cNvCxnSpPr/>
          <p:nvPr/>
        </p:nvCxnSpPr>
        <p:spPr>
          <a:xfrm flipH="1" flipV="1">
            <a:off x="1641240" y="55814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72" name="TextBox 11"/>
          <p:cNvGrpSpPr/>
          <p:nvPr/>
        </p:nvGrpSpPr>
        <p:grpSpPr>
          <a:xfrm>
            <a:off x="2682720" y="3749760"/>
            <a:ext cx="6205680" cy="1492200"/>
            <a:chOff x="2682720" y="3749760"/>
            <a:chExt cx="6205680" cy="1492200"/>
          </a:xfrm>
        </p:grpSpPr>
        <p:pic>
          <p:nvPicPr>
            <p:cNvPr id="473" name="TextBox 11" descr=""/>
            <p:cNvPicPr/>
            <p:nvPr/>
          </p:nvPicPr>
          <p:blipFill>
            <a:blip r:embed="rId1"/>
            <a:stretch/>
          </p:blipFill>
          <p:spPr>
            <a:xfrm>
              <a:off x="2682720" y="3749760"/>
              <a:ext cx="620568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2835360" y="3816360"/>
              <a:ext cx="589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ећањем притиска равнотежа се помера на страну </a:t>
              </a: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мање запремин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мањег броја молова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TextBox 12"/>
          <p:cNvGrpSpPr/>
          <p:nvPr/>
        </p:nvGrpSpPr>
        <p:grpSpPr>
          <a:xfrm>
            <a:off x="2682720" y="5114880"/>
            <a:ext cx="6212160" cy="1494000"/>
            <a:chOff x="2682720" y="5114880"/>
            <a:chExt cx="6212160" cy="1494000"/>
          </a:xfrm>
        </p:grpSpPr>
        <p:pic>
          <p:nvPicPr>
            <p:cNvPr id="476" name="TextBox 12" descr=""/>
            <p:cNvPicPr/>
            <p:nvPr/>
          </p:nvPicPr>
          <p:blipFill>
            <a:blip r:embed="rId2"/>
            <a:stretch/>
          </p:blipFill>
          <p:spPr>
            <a:xfrm>
              <a:off x="2682720" y="5114880"/>
              <a:ext cx="621216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835360" y="5184720"/>
              <a:ext cx="590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ањењем притиска равнотежа се помера на страну </a:t>
              </a: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еће запремин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већег броја молова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ight Brace 13"/>
          <p:cNvSpPr/>
          <p:nvPr/>
        </p:nvSpPr>
        <p:spPr>
          <a:xfrm rot="5400000">
            <a:off x="2939400" y="1409400"/>
            <a:ext cx="457200" cy="251460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2514600"/>
              <a:gd name="textAreaBottom" fmla="*/ 250272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4"/>
                  <a:pt x="10800" y="327"/>
                </a:cubicBezTo>
                <a:lnTo>
                  <a:pt x="10800" y="10473"/>
                </a:lnTo>
                <a:cubicBezTo>
                  <a:pt x="10800" y="10637"/>
                  <a:pt x="16200" y="10800"/>
                  <a:pt x="21600" y="10800"/>
                </a:cubicBezTo>
                <a:cubicBezTo>
                  <a:pt x="16200" y="10800"/>
                  <a:pt x="10800" y="10964"/>
                  <a:pt x="10800" y="11127"/>
                </a:cubicBezTo>
                <a:lnTo>
                  <a:pt x="10800" y="21273"/>
                </a:lnTo>
                <a:cubicBezTo>
                  <a:pt x="10800" y="2143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ight Brace 14"/>
          <p:cNvSpPr/>
          <p:nvPr/>
        </p:nvSpPr>
        <p:spPr>
          <a:xfrm rot="5400000">
            <a:off x="5607000" y="1942920"/>
            <a:ext cx="457200" cy="144792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1447920"/>
              <a:gd name="textAreaBottom" fmla="*/ 14360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16200" y="10800"/>
                  <a:pt x="21600" y="10800"/>
                </a:cubicBezTo>
                <a:cubicBezTo>
                  <a:pt x="162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TextBox 15"/>
          <p:cNvGrpSpPr/>
          <p:nvPr/>
        </p:nvGrpSpPr>
        <p:grpSpPr>
          <a:xfrm>
            <a:off x="2670120" y="2889360"/>
            <a:ext cx="981000" cy="865080"/>
            <a:chOff x="2670120" y="2889360"/>
            <a:chExt cx="981000" cy="865080"/>
          </a:xfrm>
        </p:grpSpPr>
        <p:pic>
          <p:nvPicPr>
            <p:cNvPr id="481" name="TextBox 15" descr=""/>
            <p:cNvPicPr/>
            <p:nvPr/>
          </p:nvPicPr>
          <p:blipFill>
            <a:blip r:embed="rId3"/>
            <a:stretch/>
          </p:blipFill>
          <p:spPr>
            <a:xfrm>
              <a:off x="2670120" y="2889360"/>
              <a:ext cx="9810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2743200" y="2971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TextBox 16"/>
          <p:cNvGrpSpPr/>
          <p:nvPr/>
        </p:nvGrpSpPr>
        <p:grpSpPr>
          <a:xfrm>
            <a:off x="5321160" y="2889360"/>
            <a:ext cx="982800" cy="865080"/>
            <a:chOff x="5321160" y="2889360"/>
            <a:chExt cx="982800" cy="865080"/>
          </a:xfrm>
        </p:grpSpPr>
        <p:pic>
          <p:nvPicPr>
            <p:cNvPr id="484" name="TextBox 16" descr=""/>
            <p:cNvPicPr/>
            <p:nvPr/>
          </p:nvPicPr>
          <p:blipFill>
            <a:blip r:embed="rId4"/>
            <a:stretch/>
          </p:blipFill>
          <p:spPr>
            <a:xfrm>
              <a:off x="5321160" y="2889360"/>
              <a:ext cx="9828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5394240" y="297180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Object 2"/>
              <p:cNvSpPr txBox="1"/>
              <p:nvPr/>
            </p:nvSpPr>
            <p:spPr>
              <a:xfrm>
                <a:off x="5970600" y="426420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2293920" y="1704960"/>
                <a:ext cx="38228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2N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Right Brace 3"/>
          <p:cNvSpPr/>
          <p:nvPr/>
        </p:nvSpPr>
        <p:spPr>
          <a:xfrm rot="5400000">
            <a:off x="2941200" y="151416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2057400"/>
              <a:gd name="textAreaBottom" fmla="*/ 20455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ight Brace 4"/>
          <p:cNvSpPr/>
          <p:nvPr/>
        </p:nvSpPr>
        <p:spPr>
          <a:xfrm rot="5400000">
            <a:off x="5207040" y="1943280"/>
            <a:ext cx="457200" cy="129528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1295280"/>
              <a:gd name="textAreaBottom" fmla="*/ 1283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16200" y="10800"/>
                  <a:pt x="21600" y="10800"/>
                </a:cubicBezTo>
                <a:cubicBezTo>
                  <a:pt x="162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TextBox 5"/>
          <p:cNvGrpSpPr/>
          <p:nvPr/>
        </p:nvGrpSpPr>
        <p:grpSpPr>
          <a:xfrm>
            <a:off x="2670120" y="2840040"/>
            <a:ext cx="981000" cy="866880"/>
            <a:chOff x="2670120" y="2840040"/>
            <a:chExt cx="981000" cy="866880"/>
          </a:xfrm>
        </p:grpSpPr>
        <p:pic>
          <p:nvPicPr>
            <p:cNvPr id="491" name="TextBox 5" descr=""/>
            <p:cNvPicPr/>
            <p:nvPr/>
          </p:nvPicPr>
          <p:blipFill>
            <a:blip r:embed="rId1"/>
            <a:stretch/>
          </p:blipFill>
          <p:spPr>
            <a:xfrm>
              <a:off x="2670120" y="2840040"/>
              <a:ext cx="9810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43200" y="29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TextBox 6"/>
          <p:cNvGrpSpPr/>
          <p:nvPr/>
        </p:nvGrpSpPr>
        <p:grpSpPr>
          <a:xfrm>
            <a:off x="4943520" y="2840040"/>
            <a:ext cx="981000" cy="873000"/>
            <a:chOff x="4943520" y="2840040"/>
            <a:chExt cx="981000" cy="873000"/>
          </a:xfrm>
        </p:grpSpPr>
        <p:pic>
          <p:nvPicPr>
            <p:cNvPr id="494" name="TextBox 6" descr=""/>
            <p:cNvPicPr/>
            <p:nvPr/>
          </p:nvPicPr>
          <p:blipFill>
            <a:blip r:embed="rId2"/>
            <a:stretch/>
          </p:blipFill>
          <p:spPr>
            <a:xfrm>
              <a:off x="4943520" y="2840040"/>
              <a:ext cx="98100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5016600" y="29257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TextBox 7"/>
          <p:cNvGrpSpPr/>
          <p:nvPr/>
        </p:nvGrpSpPr>
        <p:grpSpPr>
          <a:xfrm>
            <a:off x="298440" y="4290840"/>
            <a:ext cx="7705800" cy="787680"/>
            <a:chOff x="298440" y="4290840"/>
            <a:chExt cx="7705800" cy="787680"/>
          </a:xfrm>
        </p:grpSpPr>
        <p:pic>
          <p:nvPicPr>
            <p:cNvPr id="497" name="TextBox 7" descr=""/>
            <p:cNvPicPr/>
            <p:nvPr/>
          </p:nvPicPr>
          <p:blipFill>
            <a:blip r:embed="rId3"/>
            <a:stretch/>
          </p:blipFill>
          <p:spPr>
            <a:xfrm>
              <a:off x="298440" y="4290840"/>
              <a:ext cx="770580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457200" y="4365720"/>
              <a:ext cx="7488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мена притиска не утиче на пометање равнотеже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4"/>
          <p:cNvSpPr/>
          <p:nvPr/>
        </p:nvSpPr>
        <p:spPr>
          <a:xfrm>
            <a:off x="2484360" y="1166760"/>
            <a:ext cx="417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Присуство катализ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182520" y="1989000"/>
            <a:ext cx="8421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катализатора условљава брже успостављање 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авнотеж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константе равнотеже (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се не мењ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TextBox 4"/>
          <p:cNvGrpSpPr/>
          <p:nvPr/>
        </p:nvGrpSpPr>
        <p:grpSpPr>
          <a:xfrm>
            <a:off x="4419720" y="4224240"/>
            <a:ext cx="4627440" cy="1494000"/>
            <a:chOff x="4419720" y="4224240"/>
            <a:chExt cx="4627440" cy="1494000"/>
          </a:xfrm>
        </p:grpSpPr>
        <p:pic>
          <p:nvPicPr>
            <p:cNvPr id="502" name="TextBox 4" descr=""/>
            <p:cNvPicPr/>
            <p:nvPr/>
          </p:nvPicPr>
          <p:blipFill>
            <a:blip r:embed="rId1"/>
            <a:stretch/>
          </p:blipFill>
          <p:spPr>
            <a:xfrm>
              <a:off x="4419720" y="4224240"/>
              <a:ext cx="462744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4572000" y="4292640"/>
              <a:ext cx="432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атализатори убрзавају и директну и повратну хемијску реакциј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4" name="Picture 6" descr="C:\Users\Maca\Desktop\kataliz.png"/>
          <p:cNvPicPr/>
          <p:nvPr/>
        </p:nvPicPr>
        <p:blipFill>
          <a:blip r:embed="rId2"/>
          <a:stretch/>
        </p:blipFill>
        <p:spPr>
          <a:xfrm>
            <a:off x="539640" y="3429000"/>
            <a:ext cx="3705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ounded Rectangle 4"/>
          <p:cNvSpPr/>
          <p:nvPr/>
        </p:nvSpPr>
        <p:spPr>
          <a:xfrm>
            <a:off x="1547640" y="1190520"/>
            <a:ext cx="62182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110520" bIns="11052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внотежа  у  хетерогеном 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6"/>
          <p:cNvGrpSpPr/>
          <p:nvPr/>
        </p:nvGrpSpPr>
        <p:grpSpPr>
          <a:xfrm>
            <a:off x="1455840" y="3432240"/>
            <a:ext cx="2971800" cy="1179360"/>
            <a:chOff x="1455840" y="3432240"/>
            <a:chExt cx="2971800" cy="1179360"/>
          </a:xfrm>
        </p:grpSpPr>
        <p:sp>
          <p:nvSpPr>
            <p:cNvPr id="507" name="Text Box 4"/>
            <p:cNvSpPr/>
            <p:nvPr/>
          </p:nvSpPr>
          <p:spPr>
            <a:xfrm>
              <a:off x="1455840" y="3584520"/>
              <a:ext cx="29718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CaO] [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=  ––––––––––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Ca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6"/>
            <p:cNvSpPr/>
            <p:nvPr/>
          </p:nvSpPr>
          <p:spPr>
            <a:xfrm>
              <a:off x="1505160" y="3476520"/>
              <a:ext cx="2770200" cy="1135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7"/>
            <p:cNvSpPr/>
            <p:nvPr/>
          </p:nvSpPr>
          <p:spPr>
            <a:xfrm flipV="1">
              <a:off x="1505160" y="3432240"/>
              <a:ext cx="2770200" cy="10627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5"/>
          <p:cNvSpPr/>
          <p:nvPr/>
        </p:nvSpPr>
        <p:spPr>
          <a:xfrm>
            <a:off x="5208480" y="3584520"/>
            <a:ext cx="221004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= [CO</a:t>
            </a:r>
            <a:r>
              <a:rPr b="1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3441600" y="5178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Straight Arrow Connector 10"/>
          <p:cNvCxnSpPr/>
          <p:nvPr/>
        </p:nvCxnSpPr>
        <p:spPr>
          <a:xfrm flipH="1" flipV="1">
            <a:off x="4206600" y="54068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3" name="Text Box 7"/>
          <p:cNvSpPr/>
          <p:nvPr/>
        </p:nvSpPr>
        <p:spPr>
          <a:xfrm>
            <a:off x="3441600" y="5864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Straight Arrow Connector 12"/>
          <p:cNvCxnSpPr/>
          <p:nvPr/>
        </p:nvCxnSpPr>
        <p:spPr>
          <a:xfrm flipV="1">
            <a:off x="4206960" y="60926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515" name="Object 15"/>
          <p:cNvGraphicFramePr/>
          <p:nvPr/>
        </p:nvGraphicFramePr>
        <p:xfrm>
          <a:off x="1506600" y="2390760"/>
          <a:ext cx="613080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6600" y="2390760"/>
                    <a:ext cx="61308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3"/>
          <p:cNvSpPr/>
          <p:nvPr/>
        </p:nvSpPr>
        <p:spPr>
          <a:xfrm>
            <a:off x="1258920" y="12272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ловна (привидна) константа равноте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Object 3"/>
          <p:cNvGraphicFramePr/>
          <p:nvPr/>
        </p:nvGraphicFramePr>
        <p:xfrm>
          <a:off x="2698920" y="2421000"/>
          <a:ext cx="3241440" cy="46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2421000"/>
                    <a:ext cx="32414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4"/>
          <p:cNvGraphicFramePr/>
          <p:nvPr/>
        </p:nvGraphicFramePr>
        <p:xfrm>
          <a:off x="3132000" y="3108240"/>
          <a:ext cx="228600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3108240"/>
                    <a:ext cx="228600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TextBox 9"/>
          <p:cNvSpPr/>
          <p:nvPr/>
        </p:nvSpPr>
        <p:spPr>
          <a:xfrm>
            <a:off x="179280" y="4749840"/>
            <a:ext cx="8893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 у раствору присутне супстанце које на било који начин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реагују са супстанцама A, B, C или D смањиваће се њихова концентрација у раствору, што ће утицати на положај равнотеже  </a:t>
            </a: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е хемијске реакције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1"/>
          <p:cNvSpPr/>
          <p:nvPr/>
        </p:nvSpPr>
        <p:spPr>
          <a:xfrm>
            <a:off x="34920" y="1076400"/>
            <a:ext cx="91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тежне концентрације се у том случају могу изразити укупним концентрацијама помноженим одговарајућим коефицијентима мањим од јединиц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7"/>
          <p:cNvSpPr/>
          <p:nvPr/>
        </p:nvSpPr>
        <p:spPr>
          <a:xfrm>
            <a:off x="108000" y="4581360"/>
            <a:ext cx="89647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ловна (привидна) константа равно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купна концентрација супстанце А у свим њеним облицима у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раствору (изузев оног који је реаговао са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ицијент који зависи од различитих фактора (конц.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или других супстанци са којима А ступа у споредне реа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1" descr=""/>
          <p:cNvPicPr/>
          <p:nvPr/>
        </p:nvPicPr>
        <p:blipFill>
          <a:blip r:embed="rId1"/>
          <a:stretch/>
        </p:blipFill>
        <p:spPr>
          <a:xfrm>
            <a:off x="914400" y="2349360"/>
            <a:ext cx="550548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1"/>
          <p:cNvSpPr/>
          <p:nvPr/>
        </p:nvSpPr>
        <p:spPr>
          <a:xfrm>
            <a:off x="182520" y="1773360"/>
            <a:ext cx="864072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а (привидна) константа равнотеж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зависи 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е силе раство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е и концентрације супстанци присутних у раствору, 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оје ступају у споредне реакције са главним реактантима ил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оизводима реак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79280" y="1413000"/>
            <a:ext cx="864072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лико грам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олико грама воде је потребно за припремање 15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% раств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: 1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:  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,5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0" lang="en-US" sz="2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–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7,5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68360" y="1196640"/>
            <a:ext cx="46800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рна концентрација </a:t>
            </a:r>
            <a:r>
              <a:rPr b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c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82520" y="1643040"/>
            <a:ext cx="60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чина растворене супстанце -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мина раствора -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m</a:t>
            </a:r>
            <a:r>
              <a:rPr b="0" lang="sr-Latn-C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142920" y="5572080"/>
            <a:ext cx="8715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рна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рит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број молова растворене супстанце у 1 </a:t>
            </a:r>
            <a:r>
              <a:rPr b="1" lang="sr-Latn-C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dm</a:t>
            </a:r>
            <a:r>
              <a:rPr b="1" lang="sr-Latn-CS" sz="2800" spc="-1" strike="noStrike" u="sng" baseline="30000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 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734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365040" y="1371600"/>
            <a:ext cx="3676680" cy="1373760"/>
          </a:xfrm>
          <a:prstGeom prst="rect">
            <a:avLst/>
          </a:prstGeom>
          <a:noFill/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 =  1000 m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1000 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0 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55520" y="2924280"/>
            <a:ext cx="9010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рачунати моларну концентрацију 2% раств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NaCl) = 23 + 35,5 = 58,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2 g NaCl = 1000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X 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20 g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58,5 g NaCl = X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2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N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34 mol/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34 M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"/>
          <p:cNvPicPr/>
          <p:nvPr/>
        </p:nvPicPr>
        <p:blipFill>
          <a:blip r:embed="rId1"/>
          <a:stretch/>
        </p:blipFill>
        <p:spPr>
          <a:xfrm>
            <a:off x="5486400" y="914400"/>
            <a:ext cx="2895480" cy="2276640"/>
          </a:xfrm>
          <a:prstGeom prst="rect">
            <a:avLst/>
          </a:prstGeom>
          <a:ln w="0">
            <a:noFill/>
          </a:ln>
        </p:spPr>
      </p:pic>
      <p:sp>
        <p:nvSpPr>
          <p:cNvPr id="224" name="Notched Right Arrow 5"/>
          <p:cNvSpPr/>
          <p:nvPr/>
        </p:nvSpPr>
        <p:spPr>
          <a:xfrm>
            <a:off x="4205160" y="6172200"/>
            <a:ext cx="366840" cy="138240"/>
          </a:xfrm>
          <a:custGeom>
            <a:avLst/>
            <a:gdLst>
              <a:gd name="textAreaLeft" fmla="*/ 34560 w 366840"/>
              <a:gd name="textAreaRight" fmla="*/ 332280 w 366840"/>
              <a:gd name="textAreaTop" fmla="*/ 34560 h 138240"/>
              <a:gd name="textAreaBottom" fmla="*/ 103680 h 13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32" y="5400"/>
                </a:lnTo>
                <a:lnTo>
                  <a:pt x="17532" y="0"/>
                </a:lnTo>
                <a:lnTo>
                  <a:pt x="21600" y="10800"/>
                </a:lnTo>
                <a:lnTo>
                  <a:pt x="17532" y="21600"/>
                </a:lnTo>
                <a:lnTo>
                  <a:pt x="17532" y="16200"/>
                </a:lnTo>
                <a:lnTo>
                  <a:pt x="0" y="16200"/>
                </a:lnTo>
                <a:lnTo>
                  <a:pt x="2034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182520" y="1557360"/>
            <a:ext cx="9001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рачунати моларну концентрацију 96% раств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84 g/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1000 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84 g/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84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 g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840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X 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766 g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98 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X m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6 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mol/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 M</a:t>
            </a:r>
            <a:r>
              <a:rPr b="0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раство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Notched Right Arrow 2"/>
          <p:cNvSpPr/>
          <p:nvPr/>
        </p:nvSpPr>
        <p:spPr>
          <a:xfrm>
            <a:off x="4809960" y="5468760"/>
            <a:ext cx="366840" cy="136800"/>
          </a:xfrm>
          <a:custGeom>
            <a:avLst/>
            <a:gdLst>
              <a:gd name="textAreaLeft" fmla="*/ 33840 w 366840"/>
              <a:gd name="textAreaRight" fmla="*/ 333000 w 366840"/>
              <a:gd name="textAreaTop" fmla="*/ 34200 h 136800"/>
              <a:gd name="textAreaBottom" fmla="*/ 102600 h 136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79" y="5400"/>
                </a:lnTo>
                <a:lnTo>
                  <a:pt x="17579" y="0"/>
                </a:lnTo>
                <a:lnTo>
                  <a:pt x="21600" y="10800"/>
                </a:lnTo>
                <a:lnTo>
                  <a:pt x="17579" y="21600"/>
                </a:lnTo>
                <a:lnTo>
                  <a:pt x="17579" y="16200"/>
                </a:lnTo>
                <a:lnTo>
                  <a:pt x="0" y="16200"/>
                </a:lnTo>
                <a:lnTo>
                  <a:pt x="2011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43280" y="1108080"/>
            <a:ext cx="446544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ена концентрација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</a:t>
            </a:r>
            <a:r>
              <a:rPr b="1" i="1" lang="el-G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γ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274680" y="2193840"/>
            <a:ext cx="8717040" cy="2013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182520" y="4937040"/>
            <a:ext cx="896148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ена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ентра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однос маса растворене супстанце и </a:t>
            </a:r>
            <a:r>
              <a:rPr b="1" lang="sr-C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запремине 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6:32:23Z</dcterms:created>
  <dc:creator>Rastko Vukicevic</dc:creator>
  <dc:description/>
  <dc:language>en-US</dc:language>
  <cp:lastModifiedBy>Jelena Stepanović</cp:lastModifiedBy>
  <dcterms:modified xsi:type="dcterms:W3CDTF">2017-09-05T13:41:23Z</dcterms:modified>
  <cp:revision>443</cp:revision>
  <dc:subject/>
  <dc:title>Slide 1</dc:title>
</cp:coreProperties>
</file>